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4B3-00EE-4C2A-B114-8EF96D4F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48F-BB40-438B-9FF1-414EE2B8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E5F-A772-461A-B9CA-771380F7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8A0-D499-46C8-B45A-1C1F2645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2FE-8424-4AA9-BB29-36EFC940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9BB-688F-4E57-9AE7-33B53E08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149-2E9F-47C5-95B8-7AE1ABE6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93B-7DEA-41A7-A8D6-3405FBF3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D6E-75B9-4F6C-8696-D7DB2AB9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037-D260-4092-9893-38BAB82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DE7-CFC0-4A87-B131-03D0FF40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DF4-008B-4EB1-B7AC-55A5DBAC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CBE9-8314-4C3B-8146-D4AEBDD98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Флексагоны,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флексоры,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флексма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сторона у флексагона красная, другая – синя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извлечь на свет его третью – зеленую поверх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действов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снач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агон ставится на плоск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а так,чтобы он опирался на 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ние т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эти точки нужно поджать друг к друг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момент их полного сбли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агон сам собой выверн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знанку, обнажая свою зеле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Теперь остается развести верх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флексагона в сторо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флексагон готов к н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, последова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я из одного состояния в другое, флексагон будет поочере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ъявлять нам все свои три поверхности. Рис.3 дает некотор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е об изгибании флексаг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исунок1"/>
          <p:cNvPicPr/>
          <p:nvPr/>
        </p:nvPicPr>
        <p:blipFill>
          <a:blip r:embed="rId1"/>
          <a:srcRect l="45295" t="0" r="0" b="0"/>
          <a:stretch/>
        </p:blipFill>
        <p:spPr>
          <a:xfrm>
            <a:off x="5486400" y="1295280"/>
            <a:ext cx="346716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ащающиеся кольца тетраэдров – эта цепочка из тетраэдров обл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ивительной способностью изгибаться и выворачиваться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сти, все время, меняя свою фор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цо из тетраэдров – это первый пример флексора (латин. flexor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гибатель) – изгибаемого многогран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6976" t="65514" r="5739" b="21584"/>
          <a:stretch/>
        </p:blipFill>
        <p:spPr>
          <a:xfrm>
            <a:off x="762120" y="3657600"/>
            <a:ext cx="8001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240" y="152280"/>
            <a:ext cx="84582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простой известный изгибаемый многогранник-флексор, который предложил Клаус Штеффен, и зеркальный образ этого флек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ертка этого флексора состоит из двух равных оснований и крышки. В качестве значений  а, в, с, d, е хорошо подходят а=12, в=10, с=5, =11, е=17. После того как вырезано основание, нужно склеить попарно ребра так, чтобы в одной вершине (отмечены светлым кружком) основание было выпуклым в одну сторону, а в другой вершине ( отмеченной темным кружком) – в противоположную, так что в целом основание не является выпук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е основание склеивают точно так же, поэтому оба основания могут быть совмещены друг с другом. После этого основания склеиваются так, что у каждого из них остается по два свободных ребра, а эти четыре ребра заклеиваются крышкой. Полученный многогранник- флексор непрерывно изгибаем: его можно немного сжимать и разжимать, изменяя двугранные углы при реб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10345" t="47232" r="5653" b="6700"/>
          <a:stretch/>
        </p:blipFill>
        <p:spPr>
          <a:xfrm>
            <a:off x="1447920" y="838080"/>
            <a:ext cx="66294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ексма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существа, населяющие мир флексагонов 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не напомнить о самом примечательном сво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манов. Это их умение ходить по наклонным плоско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ит поставить флексмана на достаточно пологую накло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скость, и он тут же начинает мелкими шажками спускаться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й. Каждый из флексманов обладает своеобразным харак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, уж во всяком случае, своеобразной походкой. Думаю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ними доставит вам удоволь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ть флексман своими руками достаточно несложно.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интересно и занимательно,совсем не заним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ежьте из плотной бумаги квадрат со стороной 15- 20 с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нужно согнуть по диагоналям сгибом вверх и по штриховой линии (рис.4,а) сгибом вниз, а затем сложить, чтобы получился треуголь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нужно будет проделать четыре одинаковые операции. Результат первой из них – сгиб по штриховой линии рис.б – изображен на рис.в, окончательный результат – на рис.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ются еще четыре одинаковые завершающие операции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гибание маленьких треугольников, и перед нами – флексм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images"/>
          <p:cNvPicPr/>
          <p:nvPr/>
        </p:nvPicPr>
        <p:blipFill>
          <a:blip r:embed="rId1"/>
          <a:stretch/>
        </p:blipFill>
        <p:spPr>
          <a:xfrm>
            <a:off x="1981080" y="4648320"/>
            <a:ext cx="5715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8390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ение флексагонов, флексоров и флексман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 флексагонов настолько различ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воей форме (гекса-, тетра-, треуголь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атериалам изготовления, что в наш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ют достаточно большое ме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ендари, открытки, развивающие игр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змы двойного шарнир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ения -устройства, с одинак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ёгкостью открывающихся в обе сторон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в телефонах, планше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плениях для настенных предме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талях мебели, во многих дет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уш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ламные стенды, которые сво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ычным эффектом привлек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себе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в дизайнерском деле, так как 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гибаний интересен при создании диванов, кресел, стульев и других предметов интерь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705720" y="6858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0_5cb4b_73bf3918_XL"/>
          <p:cNvPicPr/>
          <p:nvPr/>
        </p:nvPicPr>
        <p:blipFill>
          <a:blip r:embed="rId1"/>
          <a:stretch/>
        </p:blipFill>
        <p:spPr>
          <a:xfrm>
            <a:off x="5791320" y="1219320"/>
            <a:ext cx="3200400" cy="210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NB441EC2C67E0"/>
          <p:cNvPicPr/>
          <p:nvPr/>
        </p:nvPicPr>
        <p:blipFill>
          <a:blip r:embed="rId2"/>
          <a:stretch/>
        </p:blipFill>
        <p:spPr>
          <a:xfrm>
            <a:off x="5791320" y="3657600"/>
            <a:ext cx="32004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лю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ире существует много неоткрытых поразительных вещей, которым ещё предстоит удивить нас своими замечательными свой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ексагоны, хотя и были открыты в первой половине XX века,до сих пор остаются загадкой, познание которой доставляет много радости и при этом развивает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Энциклопедия для детей. Аванта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. Издание 2-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Научно-популярный физико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ий журна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вант».1988год №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Научно-популярный физико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ий журна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вант».1988год №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Интернет-ресур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зис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лиева Диля, 11 клас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Тойсинская СОШ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ый руководитель Х.В.Сейфетди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 и задачи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мир флексагонов, флексоров и флексманов, способствующих развитию творчества, и показать, что математика очень удивительный предмет для изучения и заинтересовать одноклассников. Также научиться изготавливать флексагоны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ы над флексагонами, флексорами и флексманами расширили мои знания в математике. Знакомство с ними доставили мне огромное удовольствие, с их помощью я  увидела занимательную сторону математи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лашаю вас на короткую экскурсию в загадочный и занимательный мир флексагонов, флексоров и флексманов - бумажных игрушек, обладающих поразительной способностью внезапно менять свою форму и цвет. Любую из этих игрушек вы сумеете склеить за самое коротк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загруженное"/>
          <p:cNvPicPr/>
          <p:nvPr/>
        </p:nvPicPr>
        <p:blipFill>
          <a:blip r:embed="rId2"/>
          <a:srcRect l="0" t="50690" r="64227" b="0"/>
          <a:stretch/>
        </p:blipFill>
        <p:spPr>
          <a:xfrm>
            <a:off x="152280" y="3505320"/>
            <a:ext cx="1254240" cy="126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загруженное"/>
          <p:cNvPicPr/>
          <p:nvPr/>
        </p:nvPicPr>
        <p:blipFill>
          <a:blip r:embed="rId3"/>
          <a:srcRect l="35872" t="0" r="31837" b="49330"/>
          <a:stretch/>
        </p:blipFill>
        <p:spPr>
          <a:xfrm>
            <a:off x="1447920" y="4572000"/>
            <a:ext cx="1131840" cy="125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загруженное"/>
          <p:cNvPicPr/>
          <p:nvPr/>
        </p:nvPicPr>
        <p:blipFill>
          <a:blip r:embed="rId4"/>
          <a:srcRect l="0" t="0" r="64142" b="49330"/>
          <a:stretch/>
        </p:blipFill>
        <p:spPr>
          <a:xfrm>
            <a:off x="3048120" y="457200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загруженное"/>
          <p:cNvPicPr/>
          <p:nvPr/>
        </p:nvPicPr>
        <p:blipFill>
          <a:blip r:embed="rId5"/>
          <a:srcRect l="35759" t="49970" r="31653" b="0"/>
          <a:stretch/>
        </p:blipFill>
        <p:spPr>
          <a:xfrm>
            <a:off x="4800600" y="4572000"/>
            <a:ext cx="1141560" cy="124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загруженное"/>
          <p:cNvPicPr/>
          <p:nvPr/>
        </p:nvPicPr>
        <p:blipFill>
          <a:blip r:embed="rId6"/>
          <a:srcRect l="65232" t="0" r="0" b="49810"/>
          <a:stretch/>
        </p:blipFill>
        <p:spPr>
          <a:xfrm>
            <a:off x="7696080" y="3581280"/>
            <a:ext cx="1219320" cy="1244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загруженное"/>
          <p:cNvPicPr/>
          <p:nvPr/>
        </p:nvPicPr>
        <p:blipFill>
          <a:blip r:embed="rId7"/>
          <a:srcRect l="66237" t="45591" r="0" b="0"/>
          <a:stretch/>
        </p:blipFill>
        <p:spPr>
          <a:xfrm>
            <a:off x="6477120" y="4495680"/>
            <a:ext cx="118404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1920" y="76320"/>
            <a:ext cx="9372600" cy="71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ексаг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это склеенный из бумаги многоугольник, который, изгибаясь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ясь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переходить во все новые и новые состояния. При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нии становятся вид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, которые ранее были скры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струкции флексагона, а прежде видим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 уходят внутр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аскрасить поверхности флексагона в разные цвета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аждом перегибе модели можно получать эффект настоя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ейдоскопа Флексагоны обычно имеют квадратную (тетрафлексаго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шестиугольную (гексафлексагоны) форм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личения плоскостей на секторы флексагона наносят цифры,бук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изображения или просто окрашивают в определённы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 флексагона могут состоять из равносторонних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бедренных треугольников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дратов, пятиугольников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агон может допускать появление определённого числа поверхнос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из них могут быть аномальными (т.е.включающим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бя секторы с разными цифрами). Флексаг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ной формы с заданным колич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скостей может быть изготовлен из раз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ёрток. Более того, даже одна и та же развёрт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допускать разные варианты сворач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принятой системы наименований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агонов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541600" y="130104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многие другие удивительные вещи в мире, флексагоны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ы по чистой случайности. В далеком 1939 году англ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пирант Артур Х.Стоун учился в американском Принстоне. Из-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стыковки форматов американских и английских блокнотов, Сто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л немного обрезать американский аналог и сделать его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хожим на привычный. Решив после этого немного занять себя, Ар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прямоугольников, которые остались у него после обрезки, реш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ить какие-нибудь фигуры. Вскоре у молодого человека выш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ый шестиугольник из полоски бумаги, которую он перегн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в трех гранях. После этого Стоун обратил внимание на то, что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гибании модели, наружу выступают совсем другие грани. Так б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 первый флексаг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м идея собирать все более сложные бумажные модели заня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у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Таккерма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иан Таккерман довольно быстро нашел простейши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я всех поверхностей любого флексагона: держа флексаго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какой либо угол, следует открывать фигуру до тех пор, пока 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ткрывается», а затем переходить к следующему углу. Этот мет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й как «путь Таккермана», позволяет увидеть все ш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оротов гексогексофлексагонов за один цикл за двенадц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гибаний. Поверхности с цифрами 1,2 и 3 будут появляться в 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а чаще,чем поверхности с цифрами 4,5 и 6. Путь Таккерм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бно изображать в виде схемы. Стрелки указывают, в ка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ке становятся видимыми поверхности флексагона. 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ого типа пригодны для исследования любой разнови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аг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age001_263"/>
          <p:cNvPicPr/>
          <p:nvPr/>
        </p:nvPicPr>
        <p:blipFill>
          <a:blip r:embed="rId2"/>
          <a:stretch/>
        </p:blipFill>
        <p:spPr>
          <a:xfrm>
            <a:off x="3352680" y="4572000"/>
            <a:ext cx="21718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829800" cy="82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коре был создан «Флексагонный комитет», в который вошли, кро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уна, аспирант-математик Бриан Таккерман, аспирант-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чард Фейнман и преподаватель математики Джон У. Тью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40 году Ричард Фейман и Джон У. Тьюки разработали теор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агонов, заложив тем самым основания для всех послед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й. Теория не была опубликована полностью, хо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е её части впоследствии были открыты заново. Напа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л-Харбор приостановило работу «Флексагонного комитета», 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йна вскоре разбросала всех четырех его учредителей в ра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рность флексагоны получили после появления в декабрь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е журнала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Americ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за 1956 год пер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нки Мартина Гарднера «Mathematical Games», посвящё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ксафлексагонам.Флексагоны неоднократно были запатентованы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 игрушек, а не получили широкого коммерческого распрост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ксафлексаг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флексагон, имеющий форму прави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иугольника. Каждая поверхность гексафлексагона состои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и треугольных се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множество гексафлексагонов, различающихся по чис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ей. Известны гексафлексагоны с тремя, четырьмя, пят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ью, семью, девятью, двенадцатью, пятнадцатью, сорока восем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скостями; количество плоскостей ограничено лишь тем, что бум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ненулевую толщ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ниге Мартина Гарднера «Математические головоломк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лечения» (М.,Мир,1971) изложена история откры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ксафлексагонов и подобно рассказана о том, как можно стро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 с большим числом поверхностей.Начина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ксагексафлексагона, количество разных гексафлексагонов с од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ем же количеством поверхностей становится больше 1: сущ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гексагексафлексагона, 4 гептагексафлексагона,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тафлексагонов, 27 эннагексафлексагонов и 82 декагексафлексаг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l1d"/>
          <p:cNvPicPr/>
          <p:nvPr/>
        </p:nvPicPr>
        <p:blipFill>
          <a:blip r:embed="rId1"/>
          <a:stretch/>
        </p:blipFill>
        <p:spPr>
          <a:xfrm>
            <a:off x="1371600" y="4952880"/>
            <a:ext cx="1828800" cy="165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l_142ac58b"/>
          <p:cNvPicPr/>
          <p:nvPr/>
        </p:nvPicPr>
        <p:blipFill>
          <a:blip r:embed="rId2"/>
          <a:stretch/>
        </p:blipFill>
        <p:spPr>
          <a:xfrm>
            <a:off x="4876920" y="4952880"/>
            <a:ext cx="25146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ение простейшей модели гексафлексагона, описанное в кни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ина Гарднера «Математические головоломки и развлеч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.,Мир,197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режем из бумаги полоску шириной 2.5 см, состоящую из дес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ых треугольников, и раскрасим ее обе стороны – прямую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отную, как на рис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сколько раз перегнем полоску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ицам треугольник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им изготовление флексаг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я полоску,как на рис.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Теперь остается только подогну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з синий треуголь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еить друг с другом две неокраш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ые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флексагон го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Рисунок1"/>
          <p:cNvPicPr/>
          <p:nvPr/>
        </p:nvPicPr>
        <p:blipFill>
          <a:blip r:embed="rId1"/>
          <a:srcRect l="0" t="0" r="53626" b="0"/>
          <a:stretch/>
        </p:blipFill>
        <p:spPr>
          <a:xfrm>
            <a:off x="5867280" y="2286000"/>
            <a:ext cx="2919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15T17:56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